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993-DB10-4216-BAA6-157D4B13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6F4-4359-4DA3-A28A-AD50F8F3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EB7-3281-4D73-9C52-8214C191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3E6-5E6C-4641-890B-303C4FCD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53D3-CCEC-4C5F-A0AA-7BB56563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35D0-F1C3-406E-8E89-A1267E76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3F8E-D75F-4C84-A8BF-CFDF0EC5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1A2E-1CB5-4C57-9D9A-B3CD8DA6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B249-C0D6-42A5-9960-1C55B5A6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C3C8-AEA7-4311-8BFD-5AB193FF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FEFF-97F0-4556-89D9-41EE341B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AEB-0931-4621-AEB8-C7E3717D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8C0A-3EF3-4A16-A966-26C5A0F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D081-5FEA-4617-A568-EB7A216A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04E9-6456-4570-A468-2898D4A3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9A39-60E6-4C7D-9B75-5085FFD3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6608-3250-4567-B41E-29163840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6C1-EEB4-4DCC-9830-78152D16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58C-1AEF-423E-901D-30837C42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B31-5776-456F-A416-9893DEFB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C11-67FF-485A-B2A9-97637834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1BA-E400-4A37-B452-5E549B0A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13D-1B15-441E-A608-B269BFC1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712-D49E-44CD-AE4B-868A4DF6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7C98-B3F3-45A3-AF90-077F17C143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5485-D04B-4CDF-AC75-DA8A5E28A6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lgraf.net/uploads/posts/2009-05/1241827697_2-school-board.jpg" TargetMode="External"/><Relationship Id="rId3" Type="http://schemas.openxmlformats.org/officeDocument/2006/relationships/hyperlink" Target="http://files.vector-images.com/clipart/schoolsupplies_gk1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172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3040" y="1600200"/>
            <a:ext cx="7043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llgraf.net/uploads/posts/2009-05/1241827697_2-school-board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1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1214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Comp</cp:lastModifiedBy>
  <dcterms:modified xsi:type="dcterms:W3CDTF">2011-07-30T18:31:55Z</dcterms:modified>
  <cp:revision>3</cp:revision>
  <dc:subject/>
  <dc:title>Слайд 1</dc:title>
</cp:coreProperties>
</file>